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6714-177E-429E-AD49-E958239F8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B460-F9FF-45FA-9FB0-C9CEDC69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6D34-19A4-4159-AB72-79AFC57EA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7BBE-5902-4D29-95F0-540B4DC5C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CF4B-4130-4CE5-ACBE-B3981B4E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7C61-37BF-49F3-9269-49E1FCC9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F65D-34B7-411F-B0AD-06C4436AF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99BB-B56F-49AA-88BD-15E8FF9A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DAAA-35C0-42B0-91B9-AF1A98EA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3C0E-CA5F-4EF0-B235-3EDDC861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D572-23AA-463C-8812-32569015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0585-E39E-4F98-B9FE-89FBFA0F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DD1B-B7C2-483E-8F8C-7D7F0FF189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这个大人的朋友是谁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http://mapiles.com/blog/wp-content/uploads/2008/11/hilary-clinton.jpg"/>
          <p:cNvPicPr/>
          <p:nvPr/>
        </p:nvPicPr>
        <p:blipFill>
          <a:blip r:embed="rId1"/>
          <a:stretch/>
        </p:blipFill>
        <p:spPr>
          <a:xfrm>
            <a:off x="2514600" y="19051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不太大。  我听说一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千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个人住在白宫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cannes-crowds.jpg"/>
          <p:cNvPicPr/>
          <p:nvPr/>
        </p:nvPicPr>
        <p:blipFill>
          <a:blip r:embed="rId1"/>
          <a:stretch/>
        </p:blipFill>
        <p:spPr>
          <a:xfrm>
            <a:off x="1600200" y="1504800"/>
            <a:ext cx="571500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不可能。  我听说一百个人住在白宫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8" descr="congressMarch2008.jpg"/>
          <p:cNvPicPr/>
          <p:nvPr/>
        </p:nvPicPr>
        <p:blipFill>
          <a:blip r:embed="rId1"/>
          <a:stretch/>
        </p:blipFill>
        <p:spPr>
          <a:xfrm>
            <a:off x="1179360" y="1600200"/>
            <a:ext cx="6785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白宫太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Content Placeholder 3" descr="whitehouse_front.jpg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这个大人的朋友是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bama 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总统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zǒngtǒng presiden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】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lsabey\Local Settings\Temporary Internet Files\Content.IE5\FGJUL90C\MCj04402250000[1].wmf"/>
          <p:cNvPicPr/>
          <p:nvPr/>
        </p:nvPicPr>
        <p:blipFill>
          <a:blip r:embed="rId1"/>
          <a:stretch/>
        </p:blipFill>
        <p:spPr>
          <a:xfrm>
            <a:off x="3276720" y="1905120"/>
            <a:ext cx="2584440" cy="39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Obama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总统的朋友是谁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:\Documents and Settings\lsabey\Local Settings\Temporary Internet Files\Content.IE5\3ULOY7Z0\MCj04396050000[1].png"/>
          <p:cNvPicPr/>
          <p:nvPr/>
        </p:nvPicPr>
        <p:blipFill>
          <a:blip r:embed="rId1"/>
          <a:stretch/>
        </p:blipFill>
        <p:spPr>
          <a:xfrm>
            <a:off x="2476440" y="133344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bama 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总统的朋友是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ichelle. Michelle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是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bama 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的太太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4" descr="michelle-obama.jpg"/>
          <p:cNvPicPr/>
          <p:nvPr/>
        </p:nvPicPr>
        <p:blipFill>
          <a:blip r:embed="rId1"/>
          <a:stretch/>
        </p:blipFill>
        <p:spPr>
          <a:xfrm>
            <a:off x="3200400" y="1752480"/>
            <a:ext cx="2693880" cy="42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bama 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总统和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ichelle 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有几个孩子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C:\Documents and Settings\lsabey\Local Settings\Temporary Internet Files\Content.IE5\FGJUL90C\MCj04344110000[1].wmf"/>
          <p:cNvPicPr/>
          <p:nvPr/>
        </p:nvPicPr>
        <p:blipFill>
          <a:blip r:embed="rId1"/>
          <a:stretch/>
        </p:blipFill>
        <p:spPr>
          <a:xfrm>
            <a:off x="2895480" y="1976400"/>
            <a:ext cx="248940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们有两个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孩子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。她们是女孩子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Content Placeholder 3" descr="obama-girls_1250715c.jpg"/>
          <p:cNvPicPr/>
          <p:nvPr/>
        </p:nvPicPr>
        <p:blipFill>
          <a:blip r:embed="rId1"/>
          <a:stretch/>
        </p:blipFill>
        <p:spPr>
          <a:xfrm>
            <a:off x="1650960" y="2033640"/>
            <a:ext cx="5842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amas 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住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hù lives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在哪里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C:\Documents and Settings\lsabey\Local Settings\Temporary Internet Files\Content.IE5\FGJUL90C\MPj04373210000[1].jpg"/>
          <p:cNvPicPr/>
          <p:nvPr/>
        </p:nvPicPr>
        <p:blipFill>
          <a:blip r:embed="rId1"/>
          <a:stretch/>
        </p:blipFill>
        <p:spPr>
          <a:xfrm>
            <a:off x="2514600" y="1523880"/>
            <a:ext cx="48672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他们住在白宫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【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gōng palac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】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 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3" descr="whitehouse_front.jpg"/>
          <p:cNvPicPr/>
          <p:nvPr/>
        </p:nvPicPr>
        <p:blipFill>
          <a:blip r:embed="rId1"/>
          <a:stretch/>
        </p:blipFill>
        <p:spPr>
          <a:xfrm>
            <a:off x="1550880" y="1600200"/>
            <a:ext cx="6042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白宫太大吗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5:56:19Z</dcterms:created>
  <dc:creator>itsuser</dc:creator>
  <dc:description/>
  <dc:language>en-US</dc:language>
  <cp:lastModifiedBy>itsuser</cp:lastModifiedBy>
  <dcterms:modified xsi:type="dcterms:W3CDTF">2009-04-16T18:09:27Z</dcterms:modified>
  <cp:revision>4</cp:revision>
  <dc:subject/>
  <dc:title>这个大人的朋友是谁？</dc:title>
</cp:coreProperties>
</file>